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DE3-0418-4390-9685-04DAB896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FF9-B412-4872-A1EB-1E13F3F4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690-55D9-41ED-BDB0-84DCF92A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613-A3A0-4172-8B52-FE0F9906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B16-1E4A-4367-810B-E15B9B51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707-999F-4A75-83F8-324F1C7A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876-DCC2-4089-904A-DCF312D7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8A0-F7E9-4E9F-A224-1DA800D9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B61-3161-4A7B-A4E5-05BB76A4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8D7-42B8-44DA-B01E-66E8EBB7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342-63A3-4B84-A032-B84880E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4D9-D73E-498A-AB98-70BB67E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CA93-C806-4EEC-817D-227D3FE529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53E-A9DC-491D-B304-6114E4EAA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1.bp.blogspot.com/_ROGxYA99nqg/S0avaE1objI/AAAAAAAACa0/QnM6crZGN54/S220/liste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1.bp.blogspot.com/_ROGxYA99nqg/S0avaE1objI/AAAAAAAACa0/QnM6crZGN54/S220/listen.jpg"/>
          <p:cNvPicPr/>
          <p:nvPr/>
        </p:nvPicPr>
        <p:blipFill>
          <a:blip r:embed="rId2"/>
          <a:stretch/>
        </p:blipFill>
        <p:spPr>
          <a:xfrm>
            <a:off x="5257800" y="76212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45" name="Rounded Rectangle 7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1.bp.blogspot.com/_ROGxYA99nqg/S0au5x89BNI/AAAAAAAACaU/r8pUaflVA8M/S220/sitdown_l.gif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1.bp.blogspot.com/_ROGxYA99nqg/S0au5x89BNI/AAAAAAAACaU/r8pUaflVA8M/S220/sitdown_l.gif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2.bp.blogspot.com/_ROGxYA99nqg/S0auyXtAozI/AAAAAAAACaM/3ia2NW32ILw/S220/standup.jpg"/>
          <p:cNvPicPr/>
          <p:nvPr/>
        </p:nvPicPr>
        <p:blipFill>
          <a:blip r:embed="rId1"/>
          <a:stretch/>
        </p:blipFill>
        <p:spPr>
          <a:xfrm>
            <a:off x="914400" y="533520"/>
            <a:ext cx="2590920" cy="372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2.bp.blogspot.com/_ROGxYA99nqg/S0auyXtAozI/AAAAAAAACaM/3ia2NW32ILw/S220/standup.jpg"/>
          <p:cNvPicPr/>
          <p:nvPr/>
        </p:nvPicPr>
        <p:blipFill>
          <a:blip r:embed="rId2"/>
          <a:stretch/>
        </p:blipFill>
        <p:spPr>
          <a:xfrm>
            <a:off x="5486400" y="609480"/>
            <a:ext cx="2590920" cy="3726000"/>
          </a:xfrm>
          <a:prstGeom prst="rect">
            <a:avLst/>
          </a:prstGeom>
          <a:ln w="0">
            <a:noFill/>
          </a:ln>
        </p:spPr>
      </p:pic>
      <p:sp>
        <p:nvSpPr>
          <p:cNvPr id="105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2.bp.blogspot.com/_ROGxYA99nqg/S0auyXtAozI/AAAAAAAACaM/3ia2NW32ILw/S220/standup.jpg"/>
          <p:cNvPicPr/>
          <p:nvPr/>
        </p:nvPicPr>
        <p:blipFill>
          <a:blip r:embed="rId1"/>
          <a:stretch/>
        </p:blipFill>
        <p:spPr>
          <a:xfrm>
            <a:off x="914400" y="685800"/>
            <a:ext cx="2590920" cy="372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2.bp.blogspot.com/_ROGxYA99nqg/S0auyXtAozI/AAAAAAAACaM/3ia2NW32ILw/S220/standup.jpg"/>
          <p:cNvPicPr/>
          <p:nvPr/>
        </p:nvPicPr>
        <p:blipFill>
          <a:blip r:embed="rId2"/>
          <a:stretch/>
        </p:blipFill>
        <p:spPr>
          <a:xfrm>
            <a:off x="5486400" y="685800"/>
            <a:ext cx="2590920" cy="3726000"/>
          </a:xfrm>
          <a:prstGeom prst="rect">
            <a:avLst/>
          </a:prstGeom>
          <a:ln w="0">
            <a:noFill/>
          </a:ln>
        </p:spPr>
      </p:pic>
      <p:sp>
        <p:nvSpPr>
          <p:cNvPr id="111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2.bp.blogspot.com/_ROGxYA99nqg/S0auqu5b4WI/AAAAAAAACaE/mIR7eL2L6i8/S220/jump.gif"/>
          <p:cNvPicPr/>
          <p:nvPr/>
        </p:nvPicPr>
        <p:blipFill>
          <a:blip r:embed="rId1"/>
          <a:stretch/>
        </p:blipFill>
        <p:spPr>
          <a:xfrm>
            <a:off x="1143000" y="533520"/>
            <a:ext cx="2362320" cy="396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2.bp.blogspot.com/_ROGxYA99nqg/S0auqu5b4WI/AAAAAAAACaE/mIR7eL2L6i8/S220/jump.gif"/>
          <p:cNvPicPr/>
          <p:nvPr/>
        </p:nvPicPr>
        <p:blipFill>
          <a:blip r:embed="rId2"/>
          <a:stretch/>
        </p:blipFill>
        <p:spPr>
          <a:xfrm>
            <a:off x="5486400" y="533520"/>
            <a:ext cx="2362320" cy="3967200"/>
          </a:xfrm>
          <a:prstGeom prst="rect">
            <a:avLst/>
          </a:prstGeom>
          <a:ln w="0">
            <a:noFill/>
          </a:ln>
        </p:spPr>
      </p:pic>
      <p:sp>
        <p:nvSpPr>
          <p:cNvPr id="117" name="Rounded Rectangle 6"/>
          <p:cNvSpPr/>
          <p:nvPr/>
        </p:nvSpPr>
        <p:spPr>
          <a:xfrm>
            <a:off x="838080" y="46483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7"/>
          <p:cNvSpPr/>
          <p:nvPr/>
        </p:nvSpPr>
        <p:spPr>
          <a:xfrm>
            <a:off x="5410080" y="460224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2.bp.blogspot.com/_ROGxYA99nqg/S0auqu5b4WI/AAAAAAAACaE/mIR7eL2L6i8/S220/jump.gif"/>
          <p:cNvPicPr/>
          <p:nvPr/>
        </p:nvPicPr>
        <p:blipFill>
          <a:blip r:embed="rId1"/>
          <a:stretch/>
        </p:blipFill>
        <p:spPr>
          <a:xfrm>
            <a:off x="1143000" y="533520"/>
            <a:ext cx="2362320" cy="396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2.bp.blogspot.com/_ROGxYA99nqg/S0auqu5b4WI/AAAAAAAACaE/mIR7eL2L6i8/S220/jump.gif"/>
          <p:cNvPicPr/>
          <p:nvPr/>
        </p:nvPicPr>
        <p:blipFill>
          <a:blip r:embed="rId2"/>
          <a:stretch/>
        </p:blipFill>
        <p:spPr>
          <a:xfrm>
            <a:off x="5486400" y="533520"/>
            <a:ext cx="2362320" cy="3967200"/>
          </a:xfrm>
          <a:prstGeom prst="rect">
            <a:avLst/>
          </a:prstGeom>
          <a:ln w="0">
            <a:noFill/>
          </a:ln>
        </p:spPr>
      </p:pic>
      <p:sp>
        <p:nvSpPr>
          <p:cNvPr id="123" name="Rounded Rectangle 6"/>
          <p:cNvSpPr/>
          <p:nvPr/>
        </p:nvSpPr>
        <p:spPr>
          <a:xfrm>
            <a:off x="838080" y="460224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7"/>
          <p:cNvSpPr/>
          <p:nvPr/>
        </p:nvSpPr>
        <p:spPr>
          <a:xfrm>
            <a:off x="5410080" y="4554360"/>
            <a:ext cx="2819520" cy="175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2.bp.blogspot.com/_ROGxYA99nqg/S0aukC8tU1I/AAAAAAAACZ8/PTcvZkPLb_A/S220/askquestion.gif"/>
          <p:cNvPicPr/>
          <p:nvPr/>
        </p:nvPicPr>
        <p:blipFill>
          <a:blip r:embed="rId1"/>
          <a:stretch/>
        </p:blipFill>
        <p:spPr>
          <a:xfrm>
            <a:off x="762120" y="685800"/>
            <a:ext cx="2895480" cy="26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2.bp.blogspot.com/_ROGxYA99nqg/S0aukC8tU1I/AAAAAAAACZ8/PTcvZkPLb_A/S220/askquestion.gif"/>
          <p:cNvPicPr/>
          <p:nvPr/>
        </p:nvPicPr>
        <p:blipFill>
          <a:blip r:embed="rId2"/>
          <a:stretch/>
        </p:blipFill>
        <p:spPr>
          <a:xfrm>
            <a:off x="5334120" y="762120"/>
            <a:ext cx="2895480" cy="2671560"/>
          </a:xfrm>
          <a:prstGeom prst="rect">
            <a:avLst/>
          </a:prstGeom>
          <a:ln w="0">
            <a:noFill/>
          </a:ln>
        </p:spPr>
      </p:pic>
      <p:sp>
        <p:nvSpPr>
          <p:cNvPr id="129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2.bp.blogspot.com/_ROGxYA99nqg/S0aukC8tU1I/AAAAAAAACZ8/PTcvZkPLb_A/S220/askquestion.gif"/>
          <p:cNvPicPr/>
          <p:nvPr/>
        </p:nvPicPr>
        <p:blipFill>
          <a:blip r:embed="rId1"/>
          <a:stretch/>
        </p:blipFill>
        <p:spPr>
          <a:xfrm>
            <a:off x="762120" y="685800"/>
            <a:ext cx="289548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2.bp.blogspot.com/_ROGxYA99nqg/S0aukC8tU1I/AAAAAAAACZ8/PTcvZkPLb_A/S220/askquestion.gif"/>
          <p:cNvPicPr/>
          <p:nvPr/>
        </p:nvPicPr>
        <p:blipFill>
          <a:blip r:embed="rId2"/>
          <a:stretch/>
        </p:blipFill>
        <p:spPr>
          <a:xfrm>
            <a:off x="5334120" y="762120"/>
            <a:ext cx="2895480" cy="26715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1.bp.blogspot.com/_ROGxYA99nqg/S0auVhgebWI/AAAAAAAACZ0/e9I7TpLBEUY/S220/answer.jpg"/>
          <p:cNvPicPr/>
          <p:nvPr/>
        </p:nvPicPr>
        <p:blipFill>
          <a:blip r:embed="rId1"/>
          <a:stretch/>
        </p:blipFill>
        <p:spPr>
          <a:xfrm>
            <a:off x="762120" y="685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1.bp.blogspot.com/_ROGxYA99nqg/S0auVhgebWI/AAAAAAAACZ0/e9I7TpLBEUY/S220/answer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41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1.bp.blogspot.com/_ROGxYA99nqg/S0auVhgebWI/AAAAAAAACZ0/e9I7TpLBEUY/S220/answer.jpg"/>
          <p:cNvPicPr/>
          <p:nvPr/>
        </p:nvPicPr>
        <p:blipFill>
          <a:blip r:embed="rId1"/>
          <a:stretch/>
        </p:blipFill>
        <p:spPr>
          <a:xfrm>
            <a:off x="762120" y="685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1.bp.blogspot.com/_ROGxYA99nqg/S0auVhgebWI/AAAAAAAACZ0/e9I7TpLBEUY/S220/answer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47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4.bp.blogspot.com/_ROGxYA99nqg/S0auMvhdUuI/AAAAAAAACZs/h_uNLMsNaL8/S220/payattentio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504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4.bp.blogspot.com/_ROGxYA99nqg/S0auMvhdUuI/AAAAAAAACZs/h_uNLMsNaL8/S220/payattention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5040" cy="1676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1.bp.blogspot.com/_ROGxYA99nqg/S0avaE1objI/AAAAAAAACa0/QnM6crZGN54/S220/liste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1.bp.blogspot.com/_ROGxYA99nqg/S0avaE1objI/AAAAAAAACa0/QnM6crZGN54/S220/listen.jpg"/>
          <p:cNvPicPr/>
          <p:nvPr/>
        </p:nvPicPr>
        <p:blipFill>
          <a:blip r:embed="rId2"/>
          <a:stretch/>
        </p:blipFill>
        <p:spPr>
          <a:xfrm>
            <a:off x="5257800" y="76212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51" name="Rounded Rectangle 7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://4.bp.blogspot.com/_ROGxYA99nqg/S0auMvhdUuI/AAAAAAAACZs/h_uNLMsNaL8/S220/payattentio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504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4.bp.blogspot.com/_ROGxYA99nqg/S0auMvhdUuI/AAAAAAAACZs/h_uNLMsNaL8/S220/payattention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504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2.bp.blogspot.com/_ROGxYA99nqg/S0atrNulcFI/AAAAAAAACZk/GJ6_T3PdZCo/S220/watch.jpg"/>
          <p:cNvPicPr/>
          <p:nvPr/>
        </p:nvPicPr>
        <p:blipFill>
          <a:blip r:embed="rId1"/>
          <a:stretch/>
        </p:blipFill>
        <p:spPr>
          <a:xfrm>
            <a:off x="762120" y="685800"/>
            <a:ext cx="3079800" cy="2057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2.bp.blogspot.com/_ROGxYA99nqg/S0atrNulcFI/AAAAAAAACZk/GJ6_T3PdZCo/S220/watch.jpg"/>
          <p:cNvPicPr/>
          <p:nvPr/>
        </p:nvPicPr>
        <p:blipFill>
          <a:blip r:embed="rId2"/>
          <a:stretch/>
        </p:blipFill>
        <p:spPr>
          <a:xfrm>
            <a:off x="5257800" y="762120"/>
            <a:ext cx="3079800" cy="2057400"/>
          </a:xfrm>
          <a:prstGeom prst="rect">
            <a:avLst/>
          </a:prstGeom>
          <a:ln w="0">
            <a:noFill/>
          </a:ln>
        </p:spPr>
      </p:pic>
      <p:sp>
        <p:nvSpPr>
          <p:cNvPr id="165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2.bp.blogspot.com/_ROGxYA99nqg/S0atrNulcFI/AAAAAAAACZk/GJ6_T3PdZCo/S220/watch.jpg"/>
          <p:cNvPicPr/>
          <p:nvPr/>
        </p:nvPicPr>
        <p:blipFill>
          <a:blip r:embed="rId1"/>
          <a:stretch/>
        </p:blipFill>
        <p:spPr>
          <a:xfrm>
            <a:off x="762120" y="685800"/>
            <a:ext cx="30798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://2.bp.blogspot.com/_ROGxYA99nqg/S0atrNulcFI/AAAAAAAACZk/GJ6_T3PdZCo/S220/watch.jpg"/>
          <p:cNvPicPr/>
          <p:nvPr/>
        </p:nvPicPr>
        <p:blipFill>
          <a:blip r:embed="rId2"/>
          <a:stretch/>
        </p:blipFill>
        <p:spPr>
          <a:xfrm>
            <a:off x="5257800" y="762120"/>
            <a:ext cx="3079800" cy="2057400"/>
          </a:xfrm>
          <a:prstGeom prst="rect">
            <a:avLst/>
          </a:prstGeom>
          <a:ln w="0">
            <a:noFill/>
          </a:ln>
        </p:spPr>
      </p:pic>
      <p:sp>
        <p:nvSpPr>
          <p:cNvPr id="171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1.bp.blogspot.com/_ROGxYA99nqg/S0avR7AZCdI/AAAAAAAACas/iho7tdSiBEU/S220/closedbook.jpg"/>
          <p:cNvPicPr/>
          <p:nvPr/>
        </p:nvPicPr>
        <p:blipFill>
          <a:blip r:embed="rId1"/>
          <a:stretch/>
        </p:blipFill>
        <p:spPr>
          <a:xfrm>
            <a:off x="838080" y="685800"/>
            <a:ext cx="2819520" cy="234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1.bp.blogspot.com/_ROGxYA99nqg/S0avR7AZCdI/AAAAAAAACas/iho7tdSiBEU/S220/closedbook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34468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8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9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1.bp.blogspot.com/_ROGxYA99nqg/S0avR7AZCdI/AAAAAAAACas/iho7tdSiBEU/S220/closedbook.jpg"/>
          <p:cNvPicPr/>
          <p:nvPr/>
        </p:nvPicPr>
        <p:blipFill>
          <a:blip r:embed="rId1"/>
          <a:stretch/>
        </p:blipFill>
        <p:spPr>
          <a:xfrm>
            <a:off x="838080" y="685800"/>
            <a:ext cx="2819520" cy="234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1.bp.blogspot.com/_ROGxYA99nqg/S0avR7AZCdI/AAAAAAAACas/iho7tdSiBEU/S220/closedbook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3446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2.bp.blogspot.com/_ROGxYA99nqg/S0avIxLyE6I/AAAAAAAACak/NN59BtLPAbA/S220/openbook.jpg"/>
          <p:cNvPicPr/>
          <p:nvPr/>
        </p:nvPicPr>
        <p:blipFill>
          <a:blip r:embed="rId1"/>
          <a:stretch/>
        </p:blipFill>
        <p:spPr>
          <a:xfrm>
            <a:off x="762120" y="7621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2.bp.blogspot.com/_ROGxYA99nqg/S0avIxLyE6I/AAAAAAAACak/NN59BtLPAbA/S220/openbook.jpg"/>
          <p:cNvPicPr/>
          <p:nvPr/>
        </p:nvPicPr>
        <p:blipFill>
          <a:blip r:embed="rId2"/>
          <a:stretch/>
        </p:blipFill>
        <p:spPr>
          <a:xfrm>
            <a:off x="5257800" y="83808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le 8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2.bp.blogspot.com/_ROGxYA99nqg/S0avIxLyE6I/AAAAAAAACak/NN59BtLPAbA/S220/openbook.jpg"/>
          <p:cNvPicPr/>
          <p:nvPr/>
        </p:nvPicPr>
        <p:blipFill>
          <a:blip r:embed="rId1"/>
          <a:stretch/>
        </p:blipFill>
        <p:spPr>
          <a:xfrm>
            <a:off x="762120" y="7621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2.bp.blogspot.com/_ROGxYA99nqg/S0avIxLyE6I/AAAAAAAACak/NN59BtLPAbA/S220/openbook.jpg"/>
          <p:cNvPicPr/>
          <p:nvPr/>
        </p:nvPicPr>
        <p:blipFill>
          <a:blip r:embed="rId2"/>
          <a:stretch/>
        </p:blipFill>
        <p:spPr>
          <a:xfrm>
            <a:off x="5257800" y="83808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4.bp.blogspot.com/_ROGxYA99nqg/S0avA5Pog_I/AAAAAAAACac/-Q9hlfyYPIc/S220/clap.jpg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331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4.bp.blogspot.com/_ROGxYA99nqg/S0avA5Pog_I/AAAAAAAACac/-Q9hlfyYPIc/S220/clap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331956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4.bp.blogspot.com/_ROGxYA99nqg/S0avA5Pog_I/AAAAAAAACac/-Q9hlfyYPIc/S220/clap.jpg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3319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4.bp.blogspot.com/_ROGxYA99nqg/S0avA5Pog_I/AAAAAAAACac/-Q9hlfyYPIc/S220/clap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331956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1.bp.blogspot.com/_ROGxYA99nqg/S0au5x89BNI/AAAAAAAACaU/r8pUaflVA8M/S220/sitdown_l.gif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1.bp.blogspot.com/_ROGxYA99nqg/S0au5x89BNI/AAAAAAAACaU/r8pUaflVA8M/S220/sitdown_l.gif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22:26Z</dcterms:created>
  <dc:creator>Vpalladino</dc:creator>
  <dc:description/>
  <dc:language>en-US</dc:language>
  <cp:lastModifiedBy>Valeria Palladino</cp:lastModifiedBy>
  <dcterms:modified xsi:type="dcterms:W3CDTF">2010-01-10T23:43:04Z</dcterms:modified>
  <cp:revision>39</cp:revision>
  <dc:subject/>
  <dc:title>Slide 1</dc:title>
</cp:coreProperties>
</file>